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C14-2CD8-4EB3-92E3-9F2E1932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70E-8922-46A3-815C-45F78D70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EE906-BECF-428B-A2B1-A0747675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D4B4A-7EC2-4A89-85B8-39C2A8A7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1D791-B0E9-44E5-B48C-3FCC4063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C76C3-560B-4CE1-AAA0-4C9F396D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704C0-FF24-4C71-8CEB-99CFCBFD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AF9EA-CC2D-420B-B7E4-A49924AB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9F1BA-0CDF-4D59-A597-9FC3D110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D4B71-1614-4B53-A276-BDE2CB21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4274C-F17D-4902-9E59-8DD03FA6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207C2-7F04-4C0B-ADE6-C6DF9D89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8A2-553F-4BD7-9BA0-AA76AB2D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A271E-7378-40A6-9C43-A5AFDA18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83BA9-F271-427D-8F97-F7B1CFFB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FA633-BEDC-497D-A84B-15A52757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978C3-0E00-4CFC-9CF6-A1DAC9D1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61C6A-9F10-4D40-A7FD-AD76EFC5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2C017-82D6-4082-A982-BAB16713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A9226-7BC3-4333-9EE8-99EB250F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E0865-C34F-4852-91E7-0BAE0F97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D3899-E971-43EC-9FAA-097EDC56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3C426-5FEA-4C8D-B3EF-902DF966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1A8-29A3-4304-ACE5-80C08BFA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FA526-831C-4381-B55E-E308563A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034A5-20F2-46B3-ADF9-6F926FD9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53119-040C-48A5-B251-0D073879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74148-F3EE-40C0-A49D-D050DFFC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3B5E8-6469-4BDD-99C6-BC4F3D15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AEBA2-4996-4C91-924C-4821DB50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25761-F9FB-41DE-A9D7-0F0C1FED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6134D-337D-47D7-BE7B-CAFBA101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7FA19-3C5C-4675-B703-C7ACC327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4966D-0A67-406F-933B-479E7087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2EC1-4ED1-4EB6-AF87-B93CF8EA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C7EF0-FA09-4AB0-BA2D-22E42267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2C388-9F1D-432A-A7EE-3E4A5A36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B7823-29F5-4879-BE10-05C47055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69C45-DA8C-45B1-9F73-0B7FD4FC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8DF63-1920-48EB-BAB2-E209B44D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24A7B-613A-401A-8CFB-0AB1F7BC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2D6FF-CFB5-4198-9AE3-D0AB8347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8CE31-EA0A-4208-A61C-97047591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327D2-589F-422C-9535-E54F6C4B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0DCB3-E76C-4D89-ADF6-AD4BC028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1ACD-FE7B-48A3-ACEF-4DAC3E1F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7A45E-3A05-4103-92DD-E9108331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D1555-2D5B-4121-A4B3-DA93940C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092FA-7E3D-4FE7-BC1C-486F06F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ECB00-60EF-4BAE-9FCE-FBEADCB0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62628-B9F2-4478-86EC-143F01DE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C1F3C-99D7-4701-9A4C-CB68F1BC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ABC33-A913-47C3-9779-835C7191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AB70F-11B2-4E1F-951B-B949EAB1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8FF4D-FF3F-433B-AD1B-A66A548F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D55DD-CA0C-4A79-9932-6AA7E6DC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844E-11D6-466A-AB83-22E30571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6BAEF-BCE8-4712-98C1-4C648994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2BADB-B1D3-4AAB-A62A-664DFF65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0619D-98C6-4DA6-A637-D81D19C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9C98E-217F-49A4-A105-2DAE2FE0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F5E55-802F-484A-8BC4-C50B904A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2A915-56D8-49F3-8369-A4D2ABB8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2901E-B8EB-46DE-9CF4-D3D3A0F1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0E413-C9B7-4570-A26E-B4DEC222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0605E-DF1B-4BB7-A49A-79C9D32A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6646F-1623-4B28-A92B-DBFA5B11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1B62-EADD-4ABA-A66F-1ADA69DF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037A1-126D-4936-9619-EF6383C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E3C6E-C521-490F-9C1D-1CFC08B1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8095D-951B-4E3F-AB1B-094906CB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8221C-88E9-4172-86FB-8502E398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2142C-E3A4-4A7E-98D5-4193F32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DE83C-5457-4DCF-AC06-C4E68CA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5E522-1C0D-40FF-8FFD-9F14109D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07A4E-A3FD-4FD4-9B7E-40855A97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7CC5E-7363-4FBD-B68B-655D9AE1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9ECB9-770E-497E-964F-AAC99E69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A368-557E-4699-9AF5-BF1A2B92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26A26-E4C7-4F1D-B411-F9EFE7AF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CA24C-14C2-4245-9626-5C198B61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A3E57-83C6-4021-AE65-29BE1631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CD464-8C6E-4DFE-81CD-819B3A73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5C595-B913-49AA-8B4F-3D6C8FDB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0E7E7-B5E0-4F5C-B54E-A6DA05A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BF199-51F3-4422-8BDF-D50DEF1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C9114-5DFA-4966-9FBC-99AD5472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CC815-9321-4801-A5F5-317FCB37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6DF95-C2C8-443D-B524-EA7C3896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A9DF-E28E-4504-B0F2-38F9EB2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28BB7-2D32-4CF8-A962-126AB199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2B1FB-2BDF-476F-B64D-8AA94153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9F9548-DD94-4735-8E83-93198D72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8DAA0B-DD32-488D-9D11-D5865B53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8C09A-A447-44BF-83F3-3ECEB75B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5DA94-57B9-42D6-B1C5-D039B26A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C217D-271D-4134-BE85-9660CD8D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655003-C3B6-4128-BD9C-97E94B72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B901B-C601-4DDE-8660-FFD52B48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B8D0B-E5F8-4DE2-B0AE-1241BC4D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951E-2CFF-42F4-81FF-25638BE1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9C6BC-1084-4F4F-9AEC-1B926A4F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2D5990-B2F9-4AE5-9484-F5890FEC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2A4D5C-E140-49C1-8329-6E2057CC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83852-4569-46B4-BE76-2AB03933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1BF0AE-E77E-4CB5-96FE-E6252BA7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FBF0F-91CC-42A2-8AA2-11F9789B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05D8C-9123-4C34-9F98-930ECC05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BA1185-E280-4151-886F-7C8A9AB0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9FC36-BA1B-4CC3-B2B7-1802FB7D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F29B5-C952-41C7-820F-496068B2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048-0037-4BE6-836F-68CD78E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80FD-9F6C-43D5-B93B-D41F90D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7C6D8-CA15-4368-A641-90AE2DC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32215-6C1C-446D-99E3-A7D20332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7707F-D9D6-45DB-95EB-A41DDC26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E6BA0-A0FC-4B8E-950D-13FDFC8D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4B56B-5EEB-4A71-8471-E75CE1B3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78532-E65F-4770-BDDD-FCDB2B20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D3625-3BEC-483C-A0D8-7F821B4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AFF1C-958A-48FA-979A-06A71523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0EA1DE-DA69-454B-A6D9-4B0803B2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EAD81-8676-4309-A4AD-011FA310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B21A-3317-48DE-A7B5-61A9A53A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2792DA-2DCA-4BAF-9D49-CA6DA5ED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CBC1C7-0C7E-4511-A81C-DABFA7D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9392C-E54E-44CD-A5F2-470F5A9E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7AAB28-FBC6-4B8A-85BE-01F4C459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54A52-EBE5-4F2A-B2F1-9A8F1501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DBB53-BF6B-45DD-B1D1-4B2E5A92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982FC-9B9C-41C2-9C3C-9106BB95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85D2A-4117-43BC-9585-1A3A9B1E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16683-4335-4C8D-AE61-53E57AC1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722388-C439-49BA-B197-5AD162A7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B320-0F97-40F9-AABD-1C1EBD43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574890-D08A-400F-8FA1-F9D61FC8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54240B-B99C-4020-B3F1-4E647704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6F5AE-E426-4224-932A-FA06E243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51B0B3-0953-4612-AF5C-277119F5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1C8D2-D07F-483A-8362-B219E023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61F1D7-4DC5-4709-9F39-07BC64FC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BE7F7-0861-4CEF-878A-38AA35DD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83802-DBDD-4609-8B95-048E58BB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91AD23-854F-4647-8185-BC1E6728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DD86CD-9536-4344-8708-89A4A30A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73B6-755B-40EC-86A0-AFBDEA16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EE62B0-71CC-4527-8115-67F3DFA6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ADA8D-335F-4E44-9769-F3BFAE6C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09800-23C0-4EC8-BC0B-340386CD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EE2361-78F2-49D4-81AB-88489927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F8EB5-5D5F-4A04-B5CB-F6BEE61F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CD85D7-9645-45DB-8A52-0FB3B498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472480-2221-4C2D-86D2-3842A5E4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CBD61-142F-40D7-9F7E-01BE8C64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E1683-2CEB-447F-A1DD-DA0EDB34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1EB61-00AD-4460-A75A-4C7CEBA3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890C-5B5A-4D07-A31A-4F49D862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F1265-6B29-4D47-B3DD-98900463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173D2-8C1C-4F95-AE91-FD262A31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236E1B-A545-4DD9-939A-AAD04ADB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2A6A2-9AF3-48A5-8DE5-316ECDBF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FBBA77-4958-4130-A25F-9E70ED62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337EA5-E461-4BA2-9F47-0B8AB80B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1E72FE-D040-4637-8835-3DDACB2F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00691-EE43-417A-BAA8-F845CF9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63784B-AA06-44E7-AB5D-4BB30EC4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6A5142-78A6-4631-90A5-2B0965CA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EA1A-3A2D-4935-B1CD-56B5CCC2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E2D0A-037B-4988-BC20-BFCB8D6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EF8206-85E2-4168-8A98-870CE628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FB6F3B-8B25-4CF1-8207-5003508D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8A81-4FAE-4126-8CCE-AF96A133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659B-7916-446E-A78C-7CECCFE5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70FE-E2F4-47A9-93C5-66430AC4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B255-1D6D-47DD-B1E7-ACCA8B3C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E40-2B40-4D02-A204-EA076128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74151-C4ED-46FE-93D2-C744176B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3068-8A42-4A80-8367-22F86F5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F25C-AA15-4CCB-BBD9-CA96827C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5F4F-06DE-4647-907B-5E9FF4D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1F27-CE0C-41D0-90FD-BB0BE1CF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AEB9-1940-4503-8491-B1AEAAD2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3255-5735-4B9D-824F-A2BF40F1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ED732-8040-427A-AF8D-C5FCC35C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184DC-5867-4DB1-989B-07F414D3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39893-A77F-431A-B9A4-6008C9EE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387-9E41-4F9A-A735-217DEA93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A818-10F6-4D81-961D-445B8DC3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79FD-7799-4F02-B90F-09211415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7711-3914-441C-952D-8802A127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DE7A-4451-492A-9012-F0DE0A3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0F40-C5EE-4C47-AEBE-7D66F3A8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2B7E-48B1-4346-81C5-8286480D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2BA3-2860-430D-9DA0-DEE90A23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9459B-699D-44BA-BE3E-7D7A62D9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B753-2CF2-45AD-9820-0DFE5AC4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85297-F158-4CE7-93E3-90795196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000-4F3F-4B98-9EB4-DF233A53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96016-EA51-44C6-A142-448C154C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F73C8-EC02-43E3-BB85-EB4289F3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CE888-A5D0-4196-9169-9C45EE66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2B95-9C49-434F-8569-F139E041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84D8E-786B-48BD-86CE-8B7B8EDB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9CE9-169B-43C3-9774-FC12A06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B2E61-4C38-4464-9BC4-D1E896C9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6AE8-770B-4456-89B7-CB6E4AE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C62D-B0FB-48EC-A7B6-A7F76F6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89A2A-9C7C-4CA3-8A8E-0BC2C2CD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0F5-F18D-40EB-9B04-1D01CEE5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7BE7B-E837-4538-AB35-FDD0036D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52A79-39C7-435F-9746-07A52556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113F6-728F-49DE-90C5-7C772BDD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18D55-0CB3-4620-82BD-ACA24119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AAB41-CF19-44D6-96B4-AF720968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0A89F-E430-49BF-8D19-621FEA10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B18D4-BF64-42B8-8744-0BE3EC66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0D14E-54F4-4E20-A9CC-8689F6B8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39D71-501B-47B1-80DA-D68527F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EB91C-306F-4911-865E-AE2A2741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492-08CA-42D1-B767-81F9203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F08C0-2A21-4AB6-98EF-B387EB13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FCC57-AB49-44FC-AECF-D1C8F79C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EBA0D-0B9D-45D1-85DB-637D6D6D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27AC-83E9-4658-B386-633F5D01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D3091-119E-428A-A08B-E49AAF5D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1A6E8-F2A0-44D1-B272-2C180846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A6758-0199-4F34-8E27-EF74B180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F880E-2C58-4F62-8722-AA6634D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742EF-E486-4462-9315-C7C6D415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0CC7E-D9BC-439A-B3C6-912B61E0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E01-A896-49A3-898A-97BC56DD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40041-C320-49A1-AF70-164A536D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94F54-7858-4BEC-B654-940B2C3E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CC69E-DB1B-460A-B625-4791CCDA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AEA79-AF2F-4A9E-B9ED-C150ABF4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8C7FB-4E75-4FA0-B391-D08B9AF2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15D6-02EA-43F7-A850-C4E4B0F8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700BB-7CDF-4196-BC3C-7B96C2D1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5C5A3-AF20-44A9-84A7-2B19F870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2E6B1-C3A2-4A87-8F17-DE057F1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A1B90-7C3F-423E-BDAB-59C72F8A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A48-C6D2-4BC7-A9FF-9D51EDD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5BF3A-10DA-464F-85AD-9066B2B3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9978-6DA9-4291-B13E-2CF31AEF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CCB86-BC46-40B1-9496-E0D4E9E6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1FA8C-FACD-4809-AF73-29AF4D7B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1C51A-CE46-43BB-AA57-2CCF21E5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EBFB3-D3AA-4BA4-8161-E9D34C2B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5E856-5B5D-4587-AF01-C029FA49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A7A57-3D2B-4992-BA13-892F7DD5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B0537-D84D-407B-85F1-29DC00AD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305AC-1C02-4B2E-A476-D6D8DE04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F029-0506-46EB-8B4C-3102571974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1C9F-39F5-4AD1-AD6B-50AD51839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6A9E-607D-4303-AC9A-0EFF66E6DC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23D0-0650-4778-AA45-76F6EF21D7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90BA-8350-4F16-8F7F-A981044D0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420D-8142-4AA6-BFB1-0FD826790C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E3E2-922E-41FF-8E8D-D2FFA47563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B289-4337-4D31-A43A-45B13AD444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6788-006E-4E3B-98AF-6F14CDDEC0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835D-6B37-4AF9-A2DA-07AF56E38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E8C8-D1E1-4855-9385-CDA93B705E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7F87-D0E4-4E9A-9BF6-512875EB9F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4BD7-12CB-4230-A35A-17CFDC9543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CB7F-8C91-477F-810A-405CDF0B54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F45-8057-4AD6-9EAA-4E4FCD19F3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FA90-75A4-4042-9D48-6647E005B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8392-6A82-4F5C-997C-5BC3147DF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2A78-E910-47CE-8ED1-5385EB0ABB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9DC8-B915-45E7-A3E4-9BAD5EFC13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E684-1C27-4B53-8C43-58A78FF5D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E27F-B238-429F-A055-0358ECDB94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A419-77FE-4676-BA0E-07A83D9B8C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28A8-886F-4E3C-8144-86D37FAFD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4D4E-6A0C-4768-BF0F-5F442B546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9502-6032-43EC-9DA5-472D663412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ABE2-C989-4830-B8DE-8C23A0F144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3184-2DE0-4DC1-8B19-79D1858B94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F3FF-6561-4538-9DC8-F27F2EFA0F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A4B6-33A3-4F8A-AAF9-5F5EA30A36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5F09-90E4-4C1F-A31B-C7D556DDF4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FF5D-E04E-4D01-A74F-E795093711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F546-B11C-4075-9065-5B8F214B5E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B364-60E0-4DDE-9F9F-7EF9699EE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119B-9001-4799-BA81-D9AAA54BED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8EB5-DEFA-4162-933A-8EF8C585B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77CC-EC1D-4325-B776-452AF99683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8127-A391-4005-8B4D-6213A79AC0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F4FF-39E8-4B8F-8B7F-CFA5F07CFF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159E-F976-4116-BF53-0C4E159E7A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F318-8BC1-4DB2-928D-E35E9B146D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881360" y="2166840"/>
            <a:ext cx="53812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69633" descr=""/>
          <p:cNvPicPr/>
          <p:nvPr/>
        </p:nvPicPr>
        <p:blipFill>
          <a:blip r:embed="rId1"/>
          <a:stretch/>
        </p:blipFill>
        <p:spPr>
          <a:xfrm>
            <a:off x="257040" y="1285920"/>
            <a:ext cx="8629920" cy="42861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8028000" y="1355760"/>
            <a:ext cx="4316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68609" descr=""/>
          <p:cNvPicPr/>
          <p:nvPr/>
        </p:nvPicPr>
        <p:blipFill>
          <a:blip r:embed="rId1"/>
          <a:stretch/>
        </p:blipFill>
        <p:spPr>
          <a:xfrm>
            <a:off x="276120" y="1328760"/>
            <a:ext cx="8591760" cy="4200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8101080" y="1628640"/>
            <a:ext cx="431640" cy="4050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1014480" y="4494240"/>
            <a:ext cx="1152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7585" descr=""/>
          <p:cNvPicPr/>
          <p:nvPr/>
        </p:nvPicPr>
        <p:blipFill>
          <a:blip r:embed="rId1"/>
          <a:stretch/>
        </p:blipFill>
        <p:spPr>
          <a:xfrm>
            <a:off x="276120" y="757080"/>
            <a:ext cx="8591760" cy="5343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2700360" y="1657440"/>
            <a:ext cx="3672000" cy="473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893440" cy="10810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208080" y="5084640"/>
            <a:ext cx="8893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6561" descr=""/>
          <p:cNvPicPr/>
          <p:nvPr/>
        </p:nvPicPr>
        <p:blipFill>
          <a:blip r:embed="rId1"/>
          <a:stretch/>
        </p:blipFill>
        <p:spPr>
          <a:xfrm>
            <a:off x="1390680" y="1000080"/>
            <a:ext cx="6362640" cy="485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4392720" cy="936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332000" y="4667400"/>
            <a:ext cx="43923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65537" descr=""/>
          <p:cNvPicPr/>
          <p:nvPr/>
        </p:nvPicPr>
        <p:blipFill>
          <a:blip r:embed="rId1"/>
          <a:stretch/>
        </p:blipFill>
        <p:spPr>
          <a:xfrm>
            <a:off x="304920" y="1119240"/>
            <a:ext cx="8534160" cy="46195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855720" y="2867040"/>
            <a:ext cx="5832360" cy="8492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6730920" y="2852640"/>
            <a:ext cx="2233800" cy="8492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4"/>
          <a:stretch/>
        </p:blipFill>
        <p:spPr>
          <a:xfrm>
            <a:off x="755640" y="3860640"/>
            <a:ext cx="2233800" cy="8496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5"/>
          <a:stretch/>
        </p:blipFill>
        <p:spPr>
          <a:xfrm>
            <a:off x="611280" y="4913280"/>
            <a:ext cx="69850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64513" descr=""/>
          <p:cNvPicPr/>
          <p:nvPr/>
        </p:nvPicPr>
        <p:blipFill>
          <a:blip r:embed="rId1"/>
          <a:stretch/>
        </p:blipFill>
        <p:spPr>
          <a:xfrm>
            <a:off x="480960" y="1285920"/>
            <a:ext cx="8182080" cy="42861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5398920" cy="8650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684360" y="3919680"/>
            <a:ext cx="2158920" cy="473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2158920" cy="473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468360" y="4522680"/>
            <a:ext cx="539892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63489" descr=""/>
          <p:cNvPicPr/>
          <p:nvPr/>
        </p:nvPicPr>
        <p:blipFill>
          <a:blip r:embed="rId1"/>
          <a:stretch/>
        </p:blipFill>
        <p:spPr>
          <a:xfrm>
            <a:off x="219240" y="1266840"/>
            <a:ext cx="87055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62465" descr=""/>
          <p:cNvPicPr/>
          <p:nvPr/>
        </p:nvPicPr>
        <p:blipFill>
          <a:blip r:embed="rId1"/>
          <a:stretch/>
        </p:blipFill>
        <p:spPr>
          <a:xfrm>
            <a:off x="861840" y="1290600"/>
            <a:ext cx="7420320" cy="42768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826920" y="1398600"/>
            <a:ext cx="7632720" cy="8636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539640" y="2363760"/>
            <a:ext cx="7632720" cy="8636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826920" y="3429000"/>
            <a:ext cx="1513080" cy="473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5"/>
          <a:stretch/>
        </p:blipFill>
        <p:spPr>
          <a:xfrm>
            <a:off x="2340000" y="3429000"/>
            <a:ext cx="4319640" cy="473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6"/>
          <a:stretch/>
        </p:blipFill>
        <p:spPr>
          <a:xfrm>
            <a:off x="539640" y="4076640"/>
            <a:ext cx="7632720" cy="8636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7"/>
          <a:stretch/>
        </p:blipFill>
        <p:spPr>
          <a:xfrm>
            <a:off x="826920" y="5084640"/>
            <a:ext cx="4319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图片 61441" descr=""/>
          <p:cNvPicPr/>
          <p:nvPr/>
        </p:nvPicPr>
        <p:blipFill>
          <a:blip r:embed="rId1"/>
          <a:stretch/>
        </p:blipFill>
        <p:spPr>
          <a:xfrm>
            <a:off x="542880" y="1905120"/>
            <a:ext cx="8058240" cy="30477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353440" cy="8636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8353440" cy="8636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468360" y="4091040"/>
            <a:ext cx="8353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714680" y="668160"/>
            <a:ext cx="5810040" cy="6000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5003640" y="1081080"/>
            <a:ext cx="1873440" cy="4716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4441680" y="1647720"/>
            <a:ext cx="1800360" cy="4525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6300720" y="2693880"/>
            <a:ext cx="1800360" cy="4525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1692360" y="3198960"/>
            <a:ext cx="3456000" cy="4521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3780000" y="4927680"/>
            <a:ext cx="792000" cy="733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2124000" y="5834160"/>
            <a:ext cx="792360" cy="733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3780000" y="5819760"/>
            <a:ext cx="7920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9410" descr=""/>
          <p:cNvPicPr/>
          <p:nvPr/>
        </p:nvPicPr>
        <p:blipFill>
          <a:blip r:embed="rId1"/>
          <a:stretch/>
        </p:blipFill>
        <p:spPr>
          <a:xfrm>
            <a:off x="1623960" y="1038240"/>
            <a:ext cx="5896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8373" descr=""/>
          <p:cNvPicPr/>
          <p:nvPr/>
        </p:nvPicPr>
        <p:blipFill>
          <a:blip r:embed="rId1"/>
          <a:stretch/>
        </p:blipFill>
        <p:spPr>
          <a:xfrm>
            <a:off x="1614600" y="847800"/>
            <a:ext cx="5914800" cy="5162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3606840" y="836640"/>
            <a:ext cx="4060800" cy="8636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692360" y="1728720"/>
            <a:ext cx="6119640" cy="8636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1619280" y="2708280"/>
            <a:ext cx="6119640" cy="8636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1619280" y="3645000"/>
            <a:ext cx="6119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7352" descr=""/>
          <p:cNvPicPr/>
          <p:nvPr/>
        </p:nvPicPr>
        <p:blipFill>
          <a:blip r:embed="rId1"/>
          <a:stretch/>
        </p:blipFill>
        <p:spPr>
          <a:xfrm>
            <a:off x="1652760" y="876240"/>
            <a:ext cx="5838480" cy="5105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3592440" y="5445000"/>
            <a:ext cx="5032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6324" descr=""/>
          <p:cNvPicPr/>
          <p:nvPr/>
        </p:nvPicPr>
        <p:blipFill>
          <a:blip r:embed="rId1"/>
          <a:stretch/>
        </p:blipFill>
        <p:spPr>
          <a:xfrm>
            <a:off x="209520" y="1019160"/>
            <a:ext cx="8724960" cy="4819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244000" y="262260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8244000" y="3948120"/>
            <a:ext cx="4316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5300" descr=""/>
          <p:cNvPicPr/>
          <p:nvPr/>
        </p:nvPicPr>
        <p:blipFill>
          <a:blip r:embed="rId1"/>
          <a:stretch/>
        </p:blipFill>
        <p:spPr>
          <a:xfrm>
            <a:off x="452520" y="2048040"/>
            <a:ext cx="8238960" cy="27619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755640" y="3270240"/>
            <a:ext cx="3672000" cy="6494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625320" y="4005360"/>
            <a:ext cx="4465800" cy="6490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5119560" y="4005360"/>
            <a:ext cx="2908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4276" descr=""/>
          <p:cNvPicPr/>
          <p:nvPr/>
        </p:nvPicPr>
        <p:blipFill>
          <a:blip r:embed="rId1"/>
          <a:stretch/>
        </p:blipFill>
        <p:spPr>
          <a:xfrm>
            <a:off x="200160" y="684360"/>
            <a:ext cx="8743680" cy="60577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317080" y="83664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8317080" y="213372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468360" y="5257800"/>
            <a:ext cx="4824360" cy="692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324000" y="6006960"/>
            <a:ext cx="583236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2231" descr=""/>
          <p:cNvPicPr/>
          <p:nvPr/>
        </p:nvPicPr>
        <p:blipFill>
          <a:blip r:embed="rId1"/>
          <a:stretch/>
        </p:blipFill>
        <p:spPr>
          <a:xfrm>
            <a:off x="228600" y="2538360"/>
            <a:ext cx="8686800" cy="1781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4211640" y="3543480"/>
            <a:ext cx="792000" cy="63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58:5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